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4BB-0839-4E3E-960A-AB0CBAF6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19C-85EB-4C53-98AE-B7ACDADF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9BF-15DA-4E19-93DA-FF14A209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E32-EF79-4412-BD99-E4671750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DA5-3535-449A-8B20-7DA2A45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7D1-4F1B-4F6B-AE4F-34FD85FF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DA5-73EE-46C7-981C-24602347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ADE-B11A-46E6-824D-1BA3ABA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21C-27E7-423D-8D7A-1D888E91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C9B-7E88-460A-A8A8-71B53EA5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407-42EA-4C98-97AD-9EF28EF2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0AE-3641-4E87-9F58-A4797B4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CF8E-9176-4A11-8C6F-8AC9403B5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aramond"/>
              </a:rPr>
              <a:t>Charge the Med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By Micah Wat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ve you ever wondered what small battery would be the strongest when making a home made electromagnet? Don’t worry I’ll do the testing for you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Garamond"/>
              </a:rPr>
              <a:t>Problem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battery size makes a larger magnetic field in an electromagn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I predict that the 9-volt type battery will make the strongest electromagnet because it has the most volt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Gather all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Tape ruler to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Wrap the wire around the nail 47 times having 3 ½ inches of wire not around the nail and the ends taped to the – and + side of the bat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Put the paperclip on one end of the ruler and the electromagnet on the other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Very slowly with the other ruler move the paperclip closer to the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When the paper clip moves to the magnet, record the distance from where it moves to the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o this 3 times for all the mag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079720"/>
                <a:gridCol w="1492200"/>
                <a:gridCol w="1492200"/>
                <a:gridCol w="1492200"/>
                <a:gridCol w="1673280"/>
              </a:tblGrid>
              <a:tr h="103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Test 1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Test 2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Test 3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Average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Battery #1 A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Battery #2 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.8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Battery #3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Battery #4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2.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Battery #5 9-vo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y hypothesis was incorrect, the 9-volt was not the strongest, in fact it was tied with the AAA as the weak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The placement of strength was 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D type battery, 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C type battery, 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rd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A type battery, and tied for last was 9-volt and AAA type bat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Laurel Wa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r. Wa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rs. Ri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"Electromagnet."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ikipedi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Web. 27 Apr. 2010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lt;en.wikipedia.org/wiki/electromagnet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"How Electromagnets work."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How Stuff Wor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b. 27 Apr. 2010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lt;www.howstuffworks.com/electromagnet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agnon, Steve. "How do I mak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ctromagnet."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Jefferson's La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Web. 27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r. 2010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lt;education.jlab.org/qa/electromagnet.html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26:14Z</dcterms:created>
  <dc:creator>USD376</dc:creator>
  <dc:description/>
  <dc:language>en-US</dc:language>
  <cp:lastModifiedBy>USD376</cp:lastModifiedBy>
  <dcterms:modified xsi:type="dcterms:W3CDTF">2010-05-07T20:25:17Z</dcterms:modified>
  <cp:revision>14</cp:revision>
  <dc:subject/>
  <dc:title>Title</dc:title>
</cp:coreProperties>
</file>